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B5F9-32D5-4926-951E-A99BCF5C1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493E-784B-4AC0-8DC8-3A4591883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B5E-FD9E-44EA-A74B-80D658AE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963-AB4A-48D7-852E-E8B9F75A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AC2-06BD-4CE9-A4ED-50213A75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B68-AC9C-4E69-9165-2A810C93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93F-1168-42B2-AE3E-8145133F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DCC-A3F3-4E4C-8B9F-13A1DD84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A76-BC48-4073-B5FA-03AD9343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8A5-DF5F-4CA7-B69A-20AD926F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0D5-EFF9-4C14-B696-74AF204A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55B-0D3C-4FF4-8108-006103ED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D6F-4F16-4A00-9461-438ACF23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972-2929-4453-87AD-DE8973F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421A-2C78-4F0C-952B-01A2B3D43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543400">
            <a:off x="426960" y="2057760"/>
            <a:ext cx="4145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77933c"/>
                </a:solidFill>
                <a:latin typeface="Calibri"/>
              </a:rPr>
              <a:t>Maria </a:t>
            </a:r>
            <a:br>
              <a:rPr sz="4800"/>
            </a:br>
            <a:r>
              <a:rPr b="0" i="1" lang="en-US" sz="4800" spc="-1" strike="noStrike">
                <a:solidFill>
                  <a:srgbClr val="77933c"/>
                </a:solidFill>
                <a:latin typeface="Calibri"/>
              </a:rPr>
              <a:t>    Reyes</a:t>
            </a:r>
            <a:br>
              <a:rPr sz="4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24280" y="3123720"/>
            <a:ext cx="3810240" cy="3429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4f81bd">
                <a:alpha val="0"/>
              </a:srgbClr>
            </a:solidFill>
            <a:miter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77933c"/>
                </a:solidFill>
                <a:latin typeface="Calibri"/>
              </a:rPr>
              <a:t>Birth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Born: April 15,19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Place: Dajabon, Dominican Repub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933c"/>
                </a:solidFill>
                <a:latin typeface="Calibri"/>
              </a:rPr>
              <a:t>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 was raised in the Dominican Republic until I was seven years old.  I came and have stayed in the United States since then. I grew up in Lawrence, MA and have been living in the same street for several yea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7933c"/>
                </a:solidFill>
                <a:latin typeface="Calibri"/>
              </a:rPr>
              <a:t>Fami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Mother: Alejandrina R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Father: Ignacio R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Sister: Alejandra R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Brother: Raldy Rey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Son: Yoelvis Tor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20275800">
            <a:off x="5037120" y="1324080"/>
            <a:ext cx="1205280" cy="10785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 rot="802800">
            <a:off x="978840" y="3993840"/>
            <a:ext cx="1727640" cy="12999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56ViKy170303-01.jpg"/>
          <p:cNvPicPr/>
          <p:nvPr/>
        </p:nvPicPr>
        <p:blipFill>
          <a:blip r:embed="rId3"/>
          <a:stretch/>
        </p:blipFill>
        <p:spPr>
          <a:xfrm>
            <a:off x="6394320" y="4108320"/>
            <a:ext cx="2371680" cy="23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7933c"/>
                </a:solidFill>
                <a:latin typeface="Calibri"/>
              </a:rPr>
              <a:t>Persona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I graduated from Lawrence High Sch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Have an Associate Degree on Buss. Administ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Work at RiverBank (SR. Customer Service As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9 Jackson 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Methuen, MA 018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training\Local Settings\Temporary Internet Files\Content.IE5\8FB6U2SS\MC900154518[1].wmf"/>
          <p:cNvPicPr/>
          <p:nvPr/>
        </p:nvPicPr>
        <p:blipFill>
          <a:blip r:embed="rId1"/>
          <a:stretch/>
        </p:blipFill>
        <p:spPr>
          <a:xfrm>
            <a:off x="6781680" y="4800600"/>
            <a:ext cx="1797120" cy="181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training\Local Settings\Temporary Internet Files\Content.IE5\8FB6U2SS\MC900154518[1].wmf"/>
          <p:cNvPicPr/>
          <p:nvPr/>
        </p:nvPicPr>
        <p:blipFill>
          <a:blip r:embed="rId2"/>
          <a:stretch/>
        </p:blipFill>
        <p:spPr>
          <a:xfrm rot="888000">
            <a:off x="6705360" y="4723920"/>
            <a:ext cx="1796760" cy="18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tangle 3" descr=""/>
          <p:cNvPicPr/>
          <p:nvPr/>
        </p:nvPicPr>
        <p:blipFill>
          <a:blip r:embed="rId1"/>
          <a:stretch/>
        </p:blipFill>
        <p:spPr>
          <a:xfrm>
            <a:off x="4475160" y="2962440"/>
            <a:ext cx="193680" cy="17683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4" descr=""/>
          <p:cNvPicPr/>
          <p:nvPr/>
        </p:nvPicPr>
        <p:blipFill>
          <a:blip r:embed="rId2"/>
          <a:stretch/>
        </p:blipFill>
        <p:spPr>
          <a:xfrm>
            <a:off x="-158760" y="291960"/>
            <a:ext cx="6218280" cy="3578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training\Local Settings\Temporary Internet Files\Content.IE5\8FB6U2SS\MC900093373[1].wmf"/>
          <p:cNvPicPr/>
          <p:nvPr/>
        </p:nvPicPr>
        <p:blipFill>
          <a:blip r:embed="rId4"/>
          <a:stretch/>
        </p:blipFill>
        <p:spPr>
          <a:xfrm>
            <a:off x="4343400" y="2819520"/>
            <a:ext cx="4138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8:43:30Z</dcterms:created>
  <dc:creator>training</dc:creator>
  <dc:description/>
  <dc:language>en-US</dc:language>
  <cp:lastModifiedBy>training</cp:lastModifiedBy>
  <dcterms:modified xsi:type="dcterms:W3CDTF">2011-02-05T20:09:51Z</dcterms:modified>
  <cp:revision>9</cp:revision>
  <dc:subject/>
  <dc:title>Slide 1</dc:title>
</cp:coreProperties>
</file>